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ADF-24BC-4DFD-924F-62A189E0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061-EB99-4325-A504-AA152D3E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170-4903-4F4D-88C1-F702274B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B99-527F-433C-B817-F1215690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534-9E5E-4EA6-A345-B9912663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46C-4222-4814-A09E-AD072B1A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4B4-86BB-4640-BCEC-041385B1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3EE-73E5-453B-BAB1-AE432BA7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8B3-E322-4AA2-88CC-FA20BC3E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591-7F24-496C-9943-9B37BA65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A10-E5CF-4D40-9B77-1FABDBE1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EA5-35BB-47EB-8907-E1F055D3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CDE7-73E7-41E5-A52E-454A7EE5F6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228600"/>
            <a:ext cx="891540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She wants them to let her appear </a:t>
            </a:r>
            <a:r>
              <a:rPr b="1" lang="zh-CN" sz="2800" spc="-1" strike="noStrike">
                <a:solidFill>
                  <a:srgbClr val="fc3000"/>
                </a:solidFill>
                <a:latin typeface="Times New Roman"/>
              </a:rPr>
              <a:t>liv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on the air, hoping that Huike will see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实况直播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ootball game was broadcast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re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3000"/>
                </a:solidFill>
                <a:latin typeface="Times New Roman"/>
              </a:rPr>
              <a:t>The Oscar ceremony is the biggest, most extravagant live event on televi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470844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3000"/>
                </a:solidFill>
                <a:latin typeface="Times New Roman"/>
              </a:rPr>
              <a:t>奥斯卡颁奖典礼是最大、最铺张的电视实况转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54:24Z</dcterms:created>
  <dc:creator>user</dc:creator>
  <dc:description/>
  <dc:language>en-US</dc:language>
  <cp:lastModifiedBy>user</cp:lastModifiedBy>
  <dcterms:modified xsi:type="dcterms:W3CDTF">2003-09-18T02:54:42Z</dcterms:modified>
  <cp:revision>1</cp:revision>
  <dc:subject/>
  <dc:title>PowerPoint 演示文稿</dc:title>
</cp:coreProperties>
</file>